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1F663-C4BD-402D-A1B1-FF1011EA5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2E5ED-0A64-4BB3-A32E-1CF74C7CF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3B769-F23B-4842-B8EE-8A25FC3BD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C20E2-9FC4-49F7-99BE-613849C93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FCF6E-6D5A-4CE7-8FF8-CC03ADD77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67170-A525-4477-B403-2BED1264E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2874E-BA06-4069-A321-21E563E58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D8469-62A7-4734-B555-5E1CAEB79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CCC0A-B602-4D46-AB90-97D6EC7B9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E6399-5643-491B-8455-07EBA17EE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B84FB-E65B-4A61-A74A-E10FC24C8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C9841-CE3E-4B87-8D45-A84D6FEA5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263E7-4810-4D29-B2FA-195EBD82E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DF01B-7290-429A-B726-26EB5A8A4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C5B99-3BB4-4547-8881-2C9153240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E47EF-B14E-46A6-B45A-335CFCAE6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6CF83-A640-433C-87F0-A1D4CDD35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D05BB0-AE93-4A02-898E-1790A5239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2114F6-051F-4A1D-92DB-B29BE0B7E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E16AAC-2422-469D-8BB6-40BE5065C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23F614-AE31-470D-B1A8-3AC533B81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9A40D0-D14C-475A-B9BA-3C5B8D864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26181-2E44-4449-9606-0BDF5BC51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96B28F-F2DB-4934-8E20-3B4B4D7DF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BB3845-AD9A-4F8D-B6B5-269F832EA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BD2915-3DD4-4C8D-AC8D-3F400C66A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3104A2-F41E-4469-977B-8733E14BD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E1A920-2B48-49B6-AF56-E3ABBA25E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53441F-D957-454C-9E01-1DC03FC91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A7E23D-53CD-4F00-BBE9-26B545F4E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476381-FC23-458B-AC96-616A892F3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D0C5B8-62D0-4521-A8D4-546ADC522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C0FAF7-66A3-4CA5-8D07-DEDEECA2F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64B05-26F7-4817-90B3-331CEE29E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86FAC0-1BB2-476E-89C8-CCDCE6C17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7F2BD9-24A0-4CBA-BCF2-352CA4DB3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07FCBF-EFFF-4A7B-954C-AFD477589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BC1FB9-777F-41DD-87A3-0DF967FA8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9E79B5-0670-4792-A880-1A7D58A01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44696F-AC70-4901-BBB0-3F8B44D14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B1E8AD-1E03-4FA4-A42D-6F6011638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8C47E0-A21A-4929-8D43-9479E39F1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5F1D33-F5D1-4F86-BDB0-F46A929CC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5B3C9-9744-4C62-A222-E2F60FF7C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6A3D9-DEAE-4B4D-9EE8-7D729BAD1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F2EEC-6A90-4CBB-A801-1CFE30EF2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9FE6B-D222-4585-ADEB-361450C51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D2E3E-91FE-4CAD-9C63-4840CCA98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42BD5-3FF9-4719-822B-236C9298F34A}" type="slidenum">
              <a:rPr b="0" lang="en-A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60AFC-243D-455C-B420-E7C0D214AF0E}" type="slidenum">
              <a:rPr b="0" lang="en-A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AA7B5-D037-46A2-AD71-9EFD03C0CBC9}" type="slidenum">
              <a:rPr b="0" lang="en-A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4839D-3C4B-4D9D-BA74-75F1821C5CF3}" type="slidenum">
              <a:rPr b="0" lang="en-A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1" descr=""/>
          <p:cNvPicPr/>
          <p:nvPr/>
        </p:nvPicPr>
        <p:blipFill>
          <a:blip r:embed="rId1"/>
          <a:stretch/>
        </p:blipFill>
        <p:spPr>
          <a:xfrm>
            <a:off x="208080" y="1365120"/>
            <a:ext cx="8631000" cy="190188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ffffff"/>
                </a:solidFill>
                <a:latin typeface="Constantia"/>
              </a:rPr>
              <a:t>Unit 3 IT Application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5000" spc="-1" strike="noStrike">
                <a:solidFill>
                  <a:srgbClr val="04617b"/>
                </a:solidFill>
                <a:latin typeface="Calibri"/>
              </a:rPr>
              <a:t>Flat file vs Relational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50920" indent="-250920" algn="just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Constantia"/>
              </a:rPr>
              <a:t>Flat file databases contain only one table – used for very simple databases, but becomes inefficient as the database becomes more complex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 algn="just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Constantia"/>
              </a:rPr>
              <a:t>Relational databases contain two or more databases and are preferred when dealing with a lot of dat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 algn="just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Constantia"/>
              </a:rPr>
              <a:t>Relational databases are linked by a common fiel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 algn="just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Constantia"/>
              </a:rPr>
              <a:t>Relational databases can be of three types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588240" indent="-226080" algn="just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nstantia"/>
              </a:rPr>
              <a:t>One-to-one relationship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88240" indent="-226080" algn="just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nstantia"/>
              </a:rPr>
              <a:t>One-to-many relationship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88240" indent="-226080" algn="just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nstantia"/>
              </a:rPr>
              <a:t>Many-to-many relationship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5000" spc="-1" strike="noStrike">
                <a:solidFill>
                  <a:srgbClr val="04617b"/>
                </a:solidFill>
                <a:latin typeface="Calibri"/>
              </a:rPr>
              <a:t>Relationships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56320" indent="-25632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Constantia"/>
              </a:rPr>
              <a:t>One-to-one relationship: used where a record in one table is connected to only one record in a second tabl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01200" indent="-231120" algn="just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nstantia"/>
              </a:rPr>
              <a:t>Eg: the relationship between an airline passenger and their seat allocation. Each passenger only has one seat and each seat can only be assigned one passenge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Constantia"/>
              </a:rPr>
              <a:t>One-to-many relationship: used where a record in one table can be connected to more than one record in a second tabl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01200" indent="-231120" algn="just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nstantia"/>
              </a:rPr>
              <a:t>Eg: several employees in an office can share one telephone extension number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01200" indent="-23112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5000" spc="-1" strike="noStrike">
                <a:solidFill>
                  <a:srgbClr val="04617b"/>
                </a:solidFill>
                <a:latin typeface="Calibri"/>
              </a:rPr>
              <a:t>Relationships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Constantia"/>
              </a:rPr>
              <a:t>Many-to-many relationship: used where each record in one table can be connected to several records in a second tabl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just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nstantia"/>
              </a:rPr>
              <a:t>Eg: the relationship between a student table and a subject table – each student can study several subjects and for each subject there are many students enrolled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5000" spc="-1" strike="noStrike">
                <a:solidFill>
                  <a:srgbClr val="04617b"/>
                </a:solidFill>
                <a:latin typeface="Calibri"/>
              </a:rPr>
              <a:t>Other key terms and concept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56320" indent="-256320" algn="just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Constantia"/>
              </a:rPr>
              <a:t>Query: use a query to filter information that meets specified criteria. The criterion can be a number, a piece of text or an expression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 algn="just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Constantia"/>
              </a:rPr>
              <a:t>Macro: used to automate a routine procedure. When the macro runs, the tasks are carried out automatically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 algn="just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Constantia"/>
              </a:rPr>
              <a:t>Data structure diagram: shows the relationship between table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 algn="just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Constantia"/>
              </a:rPr>
              <a:t>Layout diagram: hand-drawn sketch that shows the elements and format of a report or form. It includes placement of fields, labels, fonts to be used, colour, etc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5000" spc="-1" strike="noStrike">
                <a:solidFill>
                  <a:srgbClr val="04617b"/>
                </a:solidFill>
                <a:latin typeface="Calibri"/>
              </a:rPr>
              <a:t>Other key terms and concept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Constantia"/>
              </a:rPr>
              <a:t>Validation rule: allows data to be entered into a form or table if it follows a specified rule. If the data does not obey the rule, an error message appear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Constantia"/>
              </a:rPr>
              <a:t>Input mask: an electronic validation tool that controls how data is entered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Constantia"/>
              </a:rPr>
              <a:t>List tool: used to control the data that can be entered where there are a limited number of allowed values. The list box shows what values the user can select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5000" spc="-1" strike="noStrike">
                <a:solidFill>
                  <a:srgbClr val="04617b"/>
                </a:solidFill>
                <a:latin typeface="Calibri"/>
              </a:rPr>
              <a:t>Definition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Constantia"/>
              </a:rPr>
              <a:t>Database Management Software (DBMS) allows you to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tore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arch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ort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report on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large quantities of dat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5000" spc="-1" strike="noStrike">
                <a:solidFill>
                  <a:srgbClr val="04617b"/>
                </a:solidFill>
                <a:latin typeface="Calibri"/>
              </a:rPr>
              <a:t>Capabilities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Constantia"/>
              </a:rPr>
              <a:t>Can create new data calculated from stored dat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Constantia"/>
              </a:rPr>
              <a:t>Built-in functions allow manipulation of numbers, date and time and tex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Constantia"/>
              </a:rPr>
              <a:t>Can create summaries of data to produce reports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5000" spc="-1" strike="noStrike">
                <a:solidFill>
                  <a:srgbClr val="04617b"/>
                </a:solidFill>
                <a:latin typeface="Calibri"/>
              </a:rPr>
              <a:t>Structure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28760" y="19285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e concept of a database is simple: it's a collection of data in a table. An example is a table of your family as follows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785880" y="3286080"/>
          <a:ext cx="7184880" cy="3032280"/>
        </p:xfrm>
        <a:graphic>
          <a:graphicData uri="http://schemas.openxmlformats.org/drawingml/2006/table">
            <a:tbl>
              <a:tblPr/>
              <a:tblGrid>
                <a:gridCol w="1271520"/>
                <a:gridCol w="2300400"/>
                <a:gridCol w="1627200"/>
                <a:gridCol w="198576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Relationship to 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Date of Bir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Occupatio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Josep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Fath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5/08/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ngineer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Marian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Moth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3/10/6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eacher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Jerem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Broth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/12/8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University stud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Katri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is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1/7/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rimary school stud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us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8/4/9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econdary school stud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5000" spc="-1" strike="noStrike">
                <a:solidFill>
                  <a:srgbClr val="04617b"/>
                </a:solidFill>
                <a:latin typeface="Calibri"/>
              </a:rPr>
              <a:t>Structure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just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nstantia"/>
              </a:rPr>
              <a:t>Fields: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just">
              <a:lnSpc>
                <a:spcPct val="80000"/>
              </a:lnSpc>
              <a:spcBef>
                <a:spcPts val="476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900" spc="-1" strike="noStrike">
                <a:solidFill>
                  <a:srgbClr val="000000"/>
                </a:solidFill>
                <a:latin typeface="Constantia"/>
              </a:rPr>
              <a:t>Each </a:t>
            </a:r>
            <a:r>
              <a:rPr b="0" lang="en-AU" sz="1900" spc="-1" strike="noStrike">
                <a:solidFill>
                  <a:srgbClr val="0bd0d9"/>
                </a:solidFill>
                <a:latin typeface="Constantia"/>
              </a:rPr>
              <a:t>column</a:t>
            </a:r>
            <a:r>
              <a:rPr b="0" lang="en-AU" sz="1900" spc="-1" strike="noStrike">
                <a:solidFill>
                  <a:srgbClr val="000000"/>
                </a:solidFill>
                <a:latin typeface="Constantia"/>
              </a:rPr>
              <a:t> in the data table is a field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just">
              <a:lnSpc>
                <a:spcPct val="80000"/>
              </a:lnSpc>
              <a:spcBef>
                <a:spcPts val="476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900" spc="-1" strike="noStrike">
                <a:solidFill>
                  <a:srgbClr val="000000"/>
                </a:solidFill>
                <a:latin typeface="Constantia"/>
              </a:rPr>
              <a:t>Fields can vary in length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just">
              <a:lnSpc>
                <a:spcPct val="80000"/>
              </a:lnSpc>
              <a:spcBef>
                <a:spcPts val="476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900" spc="-1" strike="noStrike">
                <a:solidFill>
                  <a:srgbClr val="000000"/>
                </a:solidFill>
                <a:latin typeface="Constantia"/>
              </a:rPr>
              <a:t>Fields can be of different data types 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nstantia"/>
              </a:rPr>
              <a:t>Records: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just">
              <a:lnSpc>
                <a:spcPct val="80000"/>
              </a:lnSpc>
              <a:spcBef>
                <a:spcPts val="476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900" spc="-1" strike="noStrike">
                <a:solidFill>
                  <a:srgbClr val="000000"/>
                </a:solidFill>
                <a:latin typeface="Constantia"/>
              </a:rPr>
              <a:t>Each </a:t>
            </a:r>
            <a:r>
              <a:rPr b="0" lang="en-AU" sz="1900" spc="-1" strike="noStrike">
                <a:solidFill>
                  <a:srgbClr val="0bd0d9"/>
                </a:solidFill>
                <a:latin typeface="Constantia"/>
              </a:rPr>
              <a:t>row</a:t>
            </a:r>
            <a:r>
              <a:rPr b="0" lang="en-AU" sz="1900" spc="-1" strike="noStrike">
                <a:solidFill>
                  <a:srgbClr val="000000"/>
                </a:solidFill>
                <a:latin typeface="Constantia"/>
              </a:rPr>
              <a:t> in the data table is a record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just">
              <a:lnSpc>
                <a:spcPct val="80000"/>
              </a:lnSpc>
              <a:spcBef>
                <a:spcPts val="476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900" spc="-1" strike="noStrike">
                <a:solidFill>
                  <a:srgbClr val="000000"/>
                </a:solidFill>
                <a:latin typeface="Constantia"/>
              </a:rPr>
              <a:t>A complete set of fields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nstantia"/>
              </a:rPr>
              <a:t>Tables/Files: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just">
              <a:lnSpc>
                <a:spcPct val="80000"/>
              </a:lnSpc>
              <a:spcBef>
                <a:spcPts val="476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900" spc="-1" strike="noStrike">
                <a:solidFill>
                  <a:srgbClr val="000000"/>
                </a:solidFill>
                <a:latin typeface="Constantia"/>
              </a:rPr>
              <a:t>A collection of records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just">
              <a:lnSpc>
                <a:spcPct val="80000"/>
              </a:lnSpc>
              <a:spcBef>
                <a:spcPts val="476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900" spc="-1" strike="noStrike">
                <a:solidFill>
                  <a:srgbClr val="000000"/>
                </a:solidFill>
                <a:latin typeface="Constantia"/>
              </a:rPr>
              <a:t>A </a:t>
            </a:r>
            <a:r>
              <a:rPr b="0" lang="en-AU" sz="1900" spc="-1" strike="noStrike">
                <a:solidFill>
                  <a:srgbClr val="0bd0d9"/>
                </a:solidFill>
                <a:latin typeface="Constantia"/>
              </a:rPr>
              <a:t>flat file database </a:t>
            </a:r>
            <a:r>
              <a:rPr b="0" lang="en-AU" sz="1900" spc="-1" strike="noStrike">
                <a:solidFill>
                  <a:srgbClr val="000000"/>
                </a:solidFill>
                <a:latin typeface="Constantia"/>
              </a:rPr>
              <a:t>has only </a:t>
            </a:r>
            <a:r>
              <a:rPr b="0" lang="en-AU" sz="1900" spc="-1" strike="noStrike">
                <a:solidFill>
                  <a:srgbClr val="0bd0d9"/>
                </a:solidFill>
                <a:latin typeface="Constantia"/>
              </a:rPr>
              <a:t>one table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just">
              <a:lnSpc>
                <a:spcPct val="80000"/>
              </a:lnSpc>
              <a:spcBef>
                <a:spcPts val="476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900" spc="-1" strike="noStrike">
                <a:solidFill>
                  <a:srgbClr val="000000"/>
                </a:solidFill>
                <a:latin typeface="Constantia"/>
              </a:rPr>
              <a:t>A </a:t>
            </a:r>
            <a:r>
              <a:rPr b="0" lang="en-AU" sz="1900" spc="-1" strike="noStrike">
                <a:solidFill>
                  <a:srgbClr val="0bd0d9"/>
                </a:solidFill>
                <a:latin typeface="Constantia"/>
              </a:rPr>
              <a:t>relational database </a:t>
            </a:r>
            <a:r>
              <a:rPr b="0" lang="en-AU" sz="1900" spc="-1" strike="noStrike">
                <a:solidFill>
                  <a:srgbClr val="000000"/>
                </a:solidFill>
                <a:latin typeface="Constantia"/>
              </a:rPr>
              <a:t>has </a:t>
            </a:r>
            <a:r>
              <a:rPr b="0" lang="en-AU" sz="1900" spc="-1" strike="noStrike">
                <a:solidFill>
                  <a:srgbClr val="0bd0d9"/>
                </a:solidFill>
                <a:latin typeface="Constantia"/>
              </a:rPr>
              <a:t>two or more </a:t>
            </a:r>
            <a:r>
              <a:rPr b="0" lang="en-AU" sz="1900" spc="-1" strike="noStrike">
                <a:solidFill>
                  <a:srgbClr val="000000"/>
                </a:solidFill>
                <a:latin typeface="Constantia"/>
              </a:rPr>
              <a:t>related (connected) tables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just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nstantia"/>
              </a:rPr>
              <a:t>Primary Key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547560" indent="-272880" algn="just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nstantia"/>
              </a:rPr>
              <a:t>Uniquely identifies each record in a table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547560" indent="-272880" algn="just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nstantia"/>
              </a:rPr>
              <a:t>Each table must contain a primary key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76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5000" spc="-1" strike="noStrike">
                <a:solidFill>
                  <a:srgbClr val="04617b"/>
                </a:solidFill>
                <a:latin typeface="Calibri"/>
              </a:rPr>
              <a:t>Creating a databas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Constantia"/>
              </a:rPr>
              <a:t>When you create a database, you must first create a data structure table for each table of the databas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Constantia"/>
              </a:rPr>
              <a:t>The data structure table contains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just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nstantia"/>
              </a:rPr>
              <a:t>Field nam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just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nstantia"/>
              </a:rPr>
              <a:t>Field typ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just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nstantia"/>
              </a:rPr>
              <a:t>Field siz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just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nstantia"/>
              </a:rPr>
              <a:t>Validation rules and text where applicabl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5000" spc="-1" strike="noStrike">
                <a:solidFill>
                  <a:srgbClr val="04617b"/>
                </a:solidFill>
                <a:latin typeface="Calibri"/>
              </a:rPr>
              <a:t>Data structure tabl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Constantia"/>
              </a:rPr>
              <a:t>An example of a data structure table for a DVD rental store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357120" y="2857680"/>
          <a:ext cx="8429760" cy="3282840"/>
        </p:xfrm>
        <a:graphic>
          <a:graphicData uri="http://schemas.openxmlformats.org/drawingml/2006/table">
            <a:tbl>
              <a:tblPr/>
              <a:tblGrid>
                <a:gridCol w="1435320"/>
                <a:gridCol w="1296720"/>
                <a:gridCol w="1451160"/>
                <a:gridCol w="2124000"/>
                <a:gridCol w="2122560"/>
              </a:tblGrid>
              <a:tr h="43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4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Field 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4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Field typ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4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Field widt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4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Validation ru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4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Validation tex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43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VD tit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ex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43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atego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ex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lassific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ex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Only accept values of M, MA, PG, G, 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lease  select from the following li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Number in stoc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Numb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43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Release ye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ex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Rental pri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Number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annot be  &lt;=zer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lease enter the correct pri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5000" spc="-1" strike="noStrike">
                <a:solidFill>
                  <a:srgbClr val="04617b"/>
                </a:solidFill>
                <a:latin typeface="Calibri"/>
              </a:rPr>
              <a:t>Field nam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Constantia"/>
              </a:rPr>
              <a:t>Do not use spaces in field names (or in the name of any other database object); use dashes, underlining or capital letters instead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Constantia"/>
              </a:rPr>
              <a:t>Examples of appropriate field names are: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just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nstantia"/>
              </a:rPr>
              <a:t>EmployeePayRat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just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nstantia"/>
              </a:rPr>
              <a:t>studentfirstnam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just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nstantia"/>
              </a:rPr>
              <a:t>Employee_surnam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4617b"/>
                </a:solidFill>
                <a:latin typeface="Calibri"/>
              </a:rPr>
              <a:t>Common field types (used in MS Access)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457200" y="1935000"/>
          <a:ext cx="8115480" cy="4131000"/>
        </p:xfrm>
        <a:graphic>
          <a:graphicData uri="http://schemas.openxmlformats.org/drawingml/2006/table">
            <a:tbl>
              <a:tblPr/>
              <a:tblGrid>
                <a:gridCol w="1471680"/>
                <a:gridCol w="4929120"/>
                <a:gridCol w="17146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4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Field typ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4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Field can contain: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4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Max. field siz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ex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lphanumeric characters – use for text or text and numbers that are not used in calculati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g: name, postcod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55 charact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Numb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Numeric (integer or fraction) – use for storing numbers to be used in calculati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g: amount, number of adul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8 byt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ate/ti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ates and tim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8 byt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urrenc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Monetary valu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utoNumber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Unique numeric value that is automatically inserted when a record is added – usually used for the Primary Ke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 byt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es/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Boolean values – use for True/False fields that can hold Yes/No or True/False valu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 bi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Mem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lphanumeric characters that are longer than 255 characters or text with rich text formatt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&gt;255 charact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00:05:38Z</dcterms:created>
  <dc:creator>default</dc:creator>
  <dc:description/>
  <dc:language>en-US</dc:language>
  <cp:lastModifiedBy>01421606</cp:lastModifiedBy>
  <dcterms:modified xsi:type="dcterms:W3CDTF">2009-11-13T06:51:32Z</dcterms:modified>
  <cp:revision>20</cp:revision>
  <dc:subject/>
  <dc:title>Introduction to Databases</dc:title>
</cp:coreProperties>
</file>